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122-1976-453E-A638-537B72B7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838-EF1D-46BB-863B-51D198B2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135-B201-4248-9B69-F58CAD3E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F79-7DBE-4ECE-B09F-2997D7CA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D71-7C73-4BC5-97E4-EC3EDCC9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F80-8602-4EF3-ACA7-881DAE56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66E-FCE4-4C1C-BC83-F6206F9B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480-86CC-46C6-B458-FBE843A0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33F-002A-4303-AD7E-E2C7E46C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FA8-A81D-4859-A8E5-43EB34F0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723-B1A7-4B06-9E3A-B012FB54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930-1686-42AE-8512-6A29081C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4D55-D62D-4667-B983-5B84B68A4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200" y="-27000"/>
            <a:ext cx="89298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Помни, че ти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не случайно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си роден на таз' земя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и че да дишаш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сам не си решил.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79280" y="152280"/>
            <a:ext cx="873612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8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Ти си мисъл произлязла 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горе там от небеса,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ти си ти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за Бога скъп си, много скъп,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това си ти.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3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10008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8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Помни и знай,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че животът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Друг за теб го е решил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и дишането с обич подарил.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9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4920" y="44280"/>
            <a:ext cx="910908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8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Ти си желан, а не случайност,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не прищявка нечия, 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все едно къде живееш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и се трудиш по света.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1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0" y="152280"/>
            <a:ext cx="891540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8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Ти си мисъл произлязла 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горе там от небеса,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ти си ти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за Бога скъп си, много скъп,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това си ти.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4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0"/>
            <a:ext cx="89154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8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Помни, че тук никой друг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не е напълно като теб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нито във мисли, нито в чувствата.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Помни дори, че небето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само в твоите очи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добива смисъл скъп, неповторим.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9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4920" y="44280"/>
            <a:ext cx="910908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8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Ти си желан, а не случайност,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не прищявка нечия, 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все едно къде живееш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и се трудиш по света.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152280"/>
            <a:ext cx="891540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8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Ти си мисъл произлязла 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горе там от небеса,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ти си ти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за Бога скъп си, много скъп,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това си ти.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4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08000" y="0"/>
            <a:ext cx="912168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4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Помни, че и никой няма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като твоите очи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и че без тебе някой ще тъжи.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В сърцето ти Бог любов гореща, 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чудна сътвори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сега на другите я занеси.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06200" y="44280"/>
            <a:ext cx="89298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8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Ти си желан, а не случайност,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не прищявка нечия, 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все едно къде живееш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и се трудиш по света.</a:t>
            </a:r>
            <a:endParaRPr b="1" lang="en-US" sz="60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03:08:52Z</dcterms:created>
  <dc:creator>3fon</dc:creator>
  <dc:description/>
  <dc:language>en-US</dc:language>
  <cp:lastModifiedBy>TrifonTrifonow</cp:lastModifiedBy>
  <dcterms:modified xsi:type="dcterms:W3CDTF">2005-10-22T20:44:45Z</dcterms:modified>
  <cp:revision>19</cp:revision>
  <dc:subject/>
  <dc:title>Slide 1</dc:title>
</cp:coreProperties>
</file>